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23132"/>
        <c:axId val="23455243"/>
      </c:barChart>
      <c:catAx>
        <c:axId val="853231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55243"/>
        <c:crosses val="autoZero"/>
        <c:auto val="1"/>
        <c:lblAlgn val="ctr"/>
        <c:lblOffset val="100"/>
        <c:noMultiLvlLbl val="0"/>
      </c:catAx>
      <c:valAx>
        <c:axId val="23455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231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FAF-3085-446E-B8E3-FD3448E3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ECB-1AFA-4FA2-9CB4-47A9500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571-6613-4810-8983-A9A679E6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ADC-5C3E-4A98-A8DA-6D8CE256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6B44-989B-499C-A5F2-E04F9FF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4A4-037E-48C8-B0C9-08D59404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07A-1850-4E6D-A759-9733D286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24A-05E0-4AEE-A164-30DD3E5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D91-DC3A-402A-8284-2C5D1B5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90D-35C6-4944-9C57-EF336FF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FE6-FD36-4A90-BE12-704F5A30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07B-815B-4B3A-B329-133C8C0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0628F-50F6-47E3-BE6A-F546B3DA03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