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27106"/>
        <c:axId val="82415791"/>
      </c:barChart>
      <c:catAx>
        <c:axId val="94727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15791"/>
        <c:crosses val="autoZero"/>
        <c:auto val="1"/>
        <c:lblAlgn val="ctr"/>
        <c:lblOffset val="100"/>
        <c:noMultiLvlLbl val="0"/>
      </c:catAx>
      <c:valAx>
        <c:axId val="82415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7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C8F-D404-42C1-9E94-9767CB58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A3F-937A-47C0-A345-61203A5D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408-F925-4E47-9ED3-7241C7F4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440-488C-4437-97AD-DFBCE72E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8C0-36F7-4733-B489-3914B02D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793-4A37-4D29-90B5-ACAB0AC4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FF7-87C3-40DC-9CEB-54562103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735-20F2-4F89-A60C-252D84CA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73F-6CB4-4ED1-818D-880B321B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9C7-1C61-4F70-BF67-B93CACA1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1B8-72E0-4526-86BF-59BF59F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286-E9C9-4795-8A5F-EF13C9C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88A55-19EA-42D9-A226-2EB63383E1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