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bl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28600" y="11890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mmy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380880" y="2133720"/>
          <a:ext cx="8229600" cy="3906720"/>
        </p:xfrm>
        <a:graphic>
          <a:graphicData uri="http://schemas.openxmlformats.org/drawingml/2006/table">
            <a:tbl>
              <a:tblPr/>
              <a:tblGrid>
                <a:gridCol w="1771920"/>
                <a:gridCol w="1874520"/>
                <a:gridCol w="2500560"/>
                <a:gridCol w="20826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 Cel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6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 Cel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6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 Cel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6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 Cel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6d6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1, Cel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1, Cel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1, Cel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1, Cel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2, Cel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2, Cel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2, Cel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2, Cel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3, Cel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3, Cel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3, Cel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3, Cel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</a:tr>
              <a:tr h="45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4, Cel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4, Cel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4, Cel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4, Cel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458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5, Cel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5, Cel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5, Cel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5, Cel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df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21:52:23Z</dcterms:created>
  <dc:creator>KanwalZS</dc:creator>
  <dc:description/>
  <dc:language>en-US</dc:language>
  <cp:lastModifiedBy>Alex Nikiforov</cp:lastModifiedBy>
  <dcterms:modified xsi:type="dcterms:W3CDTF">2012-11-07T01:59:33Z</dcterms:modified>
  <cp:revision>19</cp:revision>
  <dc:subject/>
  <dc:title>Course Title Goes Here</dc:title>
</cp:coreProperties>
</file>