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6754"/>
        <c:axId val="52778906"/>
      </c:barChart>
      <c:catAx>
        <c:axId val="8736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78906"/>
        <c:crosses val="autoZero"/>
        <c:auto val="1"/>
        <c:lblAlgn val="ctr"/>
        <c:lblOffset val="100"/>
        <c:noMultiLvlLbl val="0"/>
      </c:catAx>
      <c:valAx>
        <c:axId val="52778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6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20A-91E9-4AFF-A349-3B2676CB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8F7-4D2F-41C9-ACAF-2790874C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7AD-6579-474C-8586-51CC0D5D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E5F-A224-416B-9087-C028A01A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26D-3FF7-437C-B207-A16713EC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F23-2C76-48E1-96B9-528C745C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D6C-DB3B-467F-84E9-298DED63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C7A-1FCB-4B98-80BD-5AF5BC2E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77A-96C4-409D-82F0-4238C7A0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6AF-FDE0-4312-A7EF-7EF9EDA2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F86-E44E-4118-9C1B-FB3AEBE3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CDA-7A5D-49B3-B85C-07268878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DFF9C-8DBD-4B70-B03A-C4AF1F4DEB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